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D2C-CE71-48E5-9FA4-980F6BC1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EB2-C7F1-404E-99C5-D9D6D7BA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4B6-B7FA-4264-B203-BA28B6F9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963-3763-4CB9-9D97-5B9A45BC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1FA1-C0D3-4C78-884A-427B13FF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104-2A66-470E-B149-AD2817E6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A10-4DF5-4D8C-9DD1-F7A050FA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757B-70FC-4699-8CB8-4165F254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222-578F-4E79-8F8D-9DBD2047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F8C-67AB-4244-8FA7-8D51FC61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22F-3CB1-436B-BD03-9D4C0641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F2A0-02DD-4754-BCB3-A26715EB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C3C6-1A03-4A86-A8B5-C2796B97A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cade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00800" y="4572000"/>
            <a:ext cx="2514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19520" y="457200"/>
            <a:ext cx="2971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atora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5486400"/>
            <a:ext cx="5105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7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ade"/>
          <p:cNvPicPr/>
          <p:nvPr/>
        </p:nvPicPr>
        <p:blipFill>
          <a:blip r:embed="rId2"/>
          <a:stretch/>
        </p:blipFill>
        <p:spPr>
          <a:xfrm>
            <a:off x="1828800" y="1676520"/>
            <a:ext cx="5638680" cy="1738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5029200"/>
            <a:ext cx="5638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torad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10,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a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98760" y="38088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orade rehydrates many athl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Since the Gators credited the drink there are more than 15 flavors of Gato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They were investigating why water wasn’t enough to hydrate athletes on the playing fie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Gatorade became a household name when the tradition of pouring the Gatorade jug over the winning team coach’s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The Quaker Oats Co. bought Stok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Dr. Robert 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e was born in 1927 in Flor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Robert was studying to be a internist and a nephrolog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e went to the University of Texas Medical school in Da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Robert was working with Stok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In 1978 Cade went back to working with medic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he coach asked his team doctor, one of Cade’s associates, for hel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30Z</dcterms:created>
  <dc:creator>install</dc:creator>
  <dc:description/>
  <dc:language>en-US</dc:language>
  <cp:lastModifiedBy>install</cp:lastModifiedBy>
  <dcterms:modified xsi:type="dcterms:W3CDTF">2010-05-12T17:35:44Z</dcterms:modified>
  <cp:revision>7</cp:revision>
  <dc:subject/>
  <dc:title>Slide 1</dc:title>
</cp:coreProperties>
</file>